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3D1-AD6F-4EB3-B9A8-82598E8F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AC2-72D5-4676-A5B8-2F00C654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06E-6B0C-488B-AB36-34B27013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3DF-A287-4487-9BD2-2159CDB0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3D8-0CD2-4865-8921-8EC6752C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826-6E8C-4314-BA27-AA0E80BC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98C8-A5A5-418C-8878-016BE254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5BF5-9763-4D4E-97D2-42CE424A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2CF-6679-47BD-9DAE-F2090DD2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B556-1E12-46C2-B6D6-586C8931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1A0-A500-4FC5-AB43-F32BC851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29B-702F-463B-902C-9546E1B0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0794-9B41-4659-BA6A-83B43B7BE2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3"/>
          <p:cNvSpPr/>
          <p:nvPr/>
        </p:nvSpPr>
        <p:spPr>
          <a:xfrm>
            <a:off x="1835280" y="2971800"/>
            <a:ext cx="547344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722160" y="2209680"/>
            <a:ext cx="76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写作  语言简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副标题 2"/>
          <p:cNvSpPr/>
          <p:nvPr/>
        </p:nvSpPr>
        <p:spPr>
          <a:xfrm>
            <a:off x="2590920" y="3029040"/>
            <a:ext cx="39877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七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338040" y="915840"/>
            <a:ext cx="84250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除歧义可以采取如下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添加语境法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“班长说服了我和王佳一起去爬山”，后边加“他自己却游泳去了”，歧义即刻消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变换词语法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“同桌好说话”，只要把句中的“好”改成“喜欢”，就消除了歧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1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1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1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341280" y="915840"/>
            <a:ext cx="842472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加注标点法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“中国女排打败了塞尔维亚队获得冠军”，加上标点，变为“中国女排打败了俄塞尔维亚队，获得冠军”表意就明确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调整语序法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“李明是一位博闻强识的李教授的得意门生”，调整为“李明是李教授的一位博闻强识的得意门生”，歧义就可以消除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1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1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395280" y="555480"/>
            <a:ext cx="84247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删繁就简法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防止重复，删除多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注意辨析语段中的词语是否存在词义包容、交叉或重复的情况，若有，要考虑删除，还要尽量删除语段中可有可无的文字，以确保表达的简明。例如：战胜了挫折，出现在我们面前的将是无限光辉灿烂的无比光明的美好前景。句中画线的词语，意思相近，放在一起，给人重复、堆砌的感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1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04720" y="1274760"/>
            <a:ext cx="83152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文题一：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可抓住叙事的主题，去掉偏离中心的语句；删掉语义重复的词语，使表达更加简明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文题二：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概括主要内容，要立足原文，把握中心和要点，删减旁枝末叶。文字简明、连贯，避免跳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文题三：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想象科学技术在未来的发展情况，合理设置情节，并多加修改，力争简明生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14"/>
          <p:cNvGrpSpPr/>
          <p:nvPr/>
        </p:nvGrpSpPr>
        <p:grpSpPr>
          <a:xfrm>
            <a:off x="0" y="93600"/>
            <a:ext cx="2751120" cy="1103400"/>
            <a:chOff x="0" y="93600"/>
            <a:chExt cx="2751120" cy="1103400"/>
          </a:xfrm>
        </p:grpSpPr>
        <p:pic>
          <p:nvPicPr>
            <p:cNvPr id="66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93600"/>
              <a:ext cx="27511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Box 16"/>
            <p:cNvSpPr/>
            <p:nvPr/>
          </p:nvSpPr>
          <p:spPr>
            <a:xfrm>
              <a:off x="675000" y="3524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写作指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24000" y="771480"/>
            <a:ext cx="849600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驾驶飞船逛月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杨利伟叔叔，等等我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我要和你一起乘宇宙飞船遨游太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我向杨利伟叔叔一边挥手，一边喊着。</a:t>
            </a:r>
            <a:r>
              <a:rPr b="1" lang="zh-CN" sz="2600" spc="-1" strike="noStrike" baseline="30000">
                <a:solidFill>
                  <a:srgbClr val="ff00ff"/>
                </a:solidFill>
                <a:latin typeface="黑体"/>
                <a:ea typeface="黑体"/>
              </a:rPr>
              <a:t>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杨利伟叔叔微笑着点点头，同意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我欣喜若狂，连忙穿上了洁白的宇航服，和杨利伟叔叔一起乘坐飞船遨游太空，飞船飞速行驶着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哇！我看到了地球、太阳、土星、火星、水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en-US" sz="2600" spc="-1" strike="noStrike" baseline="30000">
                <a:solidFill>
                  <a:srgbClr val="ff00ff"/>
                </a:solidFill>
                <a:latin typeface="黑体"/>
                <a:ea typeface="黑体"/>
              </a:rPr>
              <a:t>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14"/>
          <p:cNvGrpSpPr/>
          <p:nvPr/>
        </p:nvGrpSpPr>
        <p:grpSpPr>
          <a:xfrm>
            <a:off x="0" y="93600"/>
            <a:ext cx="2751120" cy="1103400"/>
            <a:chOff x="0" y="93600"/>
            <a:chExt cx="2751120" cy="1103400"/>
          </a:xfrm>
        </p:grpSpPr>
        <p:pic>
          <p:nvPicPr>
            <p:cNvPr id="70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93600"/>
              <a:ext cx="27511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16"/>
            <p:cNvSpPr/>
            <p:nvPr/>
          </p:nvSpPr>
          <p:spPr>
            <a:xfrm>
              <a:off x="675000" y="3524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范文示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矩形 1"/>
          <p:cNvSpPr/>
          <p:nvPr/>
        </p:nvSpPr>
        <p:spPr>
          <a:xfrm>
            <a:off x="3780000" y="412920"/>
            <a:ext cx="41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①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开端叙事，太空旅游开始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2268360" y="4492800"/>
            <a:ext cx="410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②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写太空所见，概述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324000" y="771480"/>
            <a:ext cx="849600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突然，一道闪光与我们擦肩而过，我连忙问杨利伟叔叔：“那是什么？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我也搞不清楚，我们一起去一探究竟吧！”杨利伟叔叔说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就这样，我们的飞船紧跟着那道闪光来到了月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走下飞船，突然，从我的身后窜过一个身影，把我吓得魂飞魄散，我缓过神来大吼一声“谁？”只见他身穿翠绿色的铠甲，火红色的头发，头上长着两根细长的犄角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325440" y="627120"/>
            <a:ext cx="8494560" cy="2153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鸡蛋般大的眼睛一直盯着我看。</a:t>
            </a:r>
            <a:r>
              <a:rPr b="1" lang="zh-CN" sz="2600" spc="-1" strike="noStrike" baseline="30000">
                <a:solidFill>
                  <a:srgbClr val="ff00ff"/>
                </a:solidFill>
                <a:latin typeface="黑体"/>
                <a:ea typeface="黑体"/>
              </a:rPr>
              <a:t>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杨利伟叔叔连忙走过来对我说：“别怕孩子，这是泰若星球上的居民，对我们特别友善。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呜呼！吓我一跳，原来是外星人啊。</a:t>
            </a:r>
            <a:r>
              <a:rPr b="1" lang="zh-CN" sz="2600" spc="-1" strike="noStrike" baseline="30000">
                <a:solidFill>
                  <a:srgbClr val="ff00ff"/>
                </a:solidFill>
                <a:latin typeface="黑体"/>
                <a:ea typeface="黑体"/>
              </a:rPr>
              <a:t>④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那个外星人一直站在那里，叽里咕噜、叽里咕噜地不知说些什么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杨利伟叔叔连忙从飞船上拿下星球语言翻译机，屏幕上显示着一排汉字：你们是地球人，对吗？感谢你们帮我们清理太空垃圾，维护太空和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"/>
          <p:cNvSpPr/>
          <p:nvPr/>
        </p:nvSpPr>
        <p:spPr>
          <a:xfrm>
            <a:off x="1042920" y="307800"/>
            <a:ext cx="511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③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路遇外星人。想象他的外貌特征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3"/>
          <p:cNvSpPr/>
          <p:nvPr/>
        </p:nvSpPr>
        <p:spPr>
          <a:xfrm>
            <a:off x="5867280" y="1779480"/>
            <a:ext cx="35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④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心理描写，逼真传神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324000" y="843120"/>
            <a:ext cx="849600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哟，外星人在向客人颁发嘉奖令呢！</a:t>
            </a:r>
            <a:r>
              <a:rPr b="1" lang="zh-CN" sz="2600" spc="-1" strike="noStrike" baseline="30000">
                <a:solidFill>
                  <a:srgbClr val="ff00ff"/>
                </a:solidFill>
                <a:latin typeface="黑体"/>
                <a:ea typeface="黑体"/>
              </a:rPr>
              <a:t>⑤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我们这才长吁了一口气，开着飞船，继续前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告别外星人，我们把从地球带来的鲜花和蔬菜种子种在月球上。一会儿的功夫，鲜花开得满地都是，五彩缤纷，漂亮极了，各种蔬菜也结出了大大小小的果实，像极了地球上美丽的花园和丰收的果园。</a:t>
            </a:r>
            <a:r>
              <a:rPr b="1" lang="zh-CN" sz="2600" spc="-1" strike="noStrike" baseline="30000">
                <a:solidFill>
                  <a:srgbClr val="ff00ff"/>
                </a:solidFill>
                <a:latin typeface="黑体"/>
                <a:ea typeface="黑体"/>
              </a:rPr>
              <a:t>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"/>
          <p:cNvSpPr/>
          <p:nvPr/>
        </p:nvSpPr>
        <p:spPr>
          <a:xfrm>
            <a:off x="2554200" y="411120"/>
            <a:ext cx="50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⑤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和外星人互动，妙趣横生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"/>
          <p:cNvSpPr/>
          <p:nvPr/>
        </p:nvSpPr>
        <p:spPr>
          <a:xfrm>
            <a:off x="1763640" y="4203720"/>
            <a:ext cx="547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⑥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在月球上种植鲜花和蔬菜，饶有趣味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466560" y="873000"/>
            <a:ext cx="828216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接着我们利用高科技卫生器清理了太空的垃圾、尾气、油烟，又顺路拜访了狮子座、天秤座、处女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星光闪烁，银河灿烂。忙碌了这一阵子，我们也都有些疲倦了，吃上几口太空饼干，打开睡袋，开始做起了与地球同胞相遇的美梦。</a:t>
            </a:r>
            <a:r>
              <a:rPr b="1" lang="zh-CN" sz="2600" spc="-1" strike="noStrike" baseline="30000">
                <a:solidFill>
                  <a:srgbClr val="ff00ff"/>
                </a:solidFill>
                <a:latin typeface="黑体"/>
                <a:ea typeface="黑体"/>
              </a:rPr>
              <a:t>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1835280" y="3724200"/>
            <a:ext cx="576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⑦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以“梦”结尾，文体性强，含义丰硕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组合 1"/>
          <p:cNvGrpSpPr/>
          <p:nvPr/>
        </p:nvGrpSpPr>
        <p:grpSpPr>
          <a:xfrm>
            <a:off x="477720" y="958680"/>
            <a:ext cx="8197920" cy="1184400"/>
            <a:chOff x="477720" y="958680"/>
            <a:chExt cx="8197920" cy="1184400"/>
          </a:xfrm>
        </p:grpSpPr>
        <p:sp>
          <p:nvSpPr>
            <p:cNvPr id="84" name="Text Box 3"/>
            <p:cNvSpPr/>
            <p:nvPr/>
          </p:nvSpPr>
          <p:spPr>
            <a:xfrm>
              <a:off x="477720" y="1534320"/>
              <a:ext cx="8197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小作者的航天梦，美丽又奇幻，很能吸引读者。这篇想象作文，主题健康积极，科学探险意识浓郁，教育性强；想象丰富贴切，外星人、星球语言翻译机、太空植物、太空垃圾</a:t>
              </a:r>
              <a:r>
                <a:rPr b="1" lang="en-US" sz="2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……</a:t>
              </a:r>
              <a:r>
                <a:rPr b="1" lang="zh-CN" sz="2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应有尽有，科学性强；语言通俗活泼，简明流利，科幻味道十足。值得点赞！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3" descr="C:\Users\Administrator.PC-20160920KSGF\Desktop\人七语大课堂\名师总评.tif"/>
            <p:cNvPicPr/>
            <p:nvPr/>
          </p:nvPicPr>
          <p:blipFill>
            <a:blip r:embed="rId1"/>
            <a:srcRect l="0" t="0" r="47040" b="0"/>
            <a:stretch/>
          </p:blipFill>
          <p:spPr>
            <a:xfrm>
              <a:off x="477720" y="958680"/>
              <a:ext cx="8127000" cy="464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39640" y="1236600"/>
            <a:ext cx="828036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懂得简明是写作时语言表达的基本要求之一，即简要、明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晓写作时有条不紊、简明清晰地表情达意的方法，即删去繁言，斟酌用词。学会修改文章，增强语言表达的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自主学习、合作探究的好习惯，养成热爱祖国语言文字的好品性，热爱科学，富于想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14"/>
          <p:cNvGrpSpPr/>
          <p:nvPr/>
        </p:nvGrpSpPr>
        <p:grpSpPr>
          <a:xfrm>
            <a:off x="0" y="93600"/>
            <a:ext cx="2751120" cy="1103400"/>
            <a:chOff x="0" y="93600"/>
            <a:chExt cx="2751120" cy="1103400"/>
          </a:xfrm>
        </p:grpSpPr>
        <p:pic>
          <p:nvPicPr>
            <p:cNvPr id="46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93600"/>
              <a:ext cx="27511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Box 16"/>
            <p:cNvSpPr/>
            <p:nvPr/>
          </p:nvSpPr>
          <p:spPr>
            <a:xfrm>
              <a:off x="675000" y="3524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目标导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14"/>
          <p:cNvGrpSpPr/>
          <p:nvPr/>
        </p:nvGrpSpPr>
        <p:grpSpPr>
          <a:xfrm>
            <a:off x="0" y="93600"/>
            <a:ext cx="2751120" cy="1103400"/>
            <a:chOff x="0" y="93600"/>
            <a:chExt cx="2751120" cy="1103400"/>
          </a:xfrm>
        </p:grpSpPr>
        <p:pic>
          <p:nvPicPr>
            <p:cNvPr id="87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93600"/>
              <a:ext cx="27511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16"/>
            <p:cNvSpPr/>
            <p:nvPr/>
          </p:nvSpPr>
          <p:spPr>
            <a:xfrm>
              <a:off x="675000" y="3524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中考真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2"/>
          <p:cNvSpPr/>
          <p:nvPr/>
        </p:nvSpPr>
        <p:spPr>
          <a:xfrm>
            <a:off x="250920" y="1058760"/>
            <a:ext cx="8340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（湖北武汉中考）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阅读下面的材料，按要求作文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生如登山，或许因为太在意登上山顶，我们往往没有慎重选择路径就匆匆出发。于是，有人踏上大道，有人走进小路，有人奔向捷径，有人闯入险途。有的路，平坦而通畅，带给你的是安稳或者平庸；有的路，崎岖而险峻，带给你的是精彩或者伤害。选择的路合适，你会顺利登上山顶；选择的路不合适，即使登上山顶，也会遍体鳞伤，决定人生状态的不是山顶，而是你选择的通向山顶的那条路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496800" y="1387440"/>
            <a:ext cx="810756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请根据对上述文字的理解和思考，写一篇文章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要求：依据材料的整体语意立意，自拟标题，不少于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600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字。文中如果出现真实的姓名或校名，请以化名代替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314280" y="555480"/>
            <a:ext cx="2533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题解说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581040" y="1063800"/>
            <a:ext cx="78724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本题为材料作文，材料完整，题意明确：决定人生状态的不是山顶，而是你选择的通向山顶的那条路，要选择合适的路（“山顶”比喻人生所要达成的结果、目标；“通向山顶的那条路”比喻达成预期结果与目标的方式方法、行为举措）。首先，“山顶”不可没有。“决定人生状态的不是山顶，而是你选择的通向山顶的那条路。”但不要忘了，这并不意味着“山顶”毫不重要，“那条路”的选择是要基于“通向山顶”来考虑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4"/>
          <p:cNvSpPr/>
          <p:nvPr/>
        </p:nvSpPr>
        <p:spPr>
          <a:xfrm>
            <a:off x="684360" y="700200"/>
            <a:ext cx="787212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其次，“合适”值得思索。就材料的整体语意来看，“合适”一词值得玩味，势必会成为作文区分的重点，至少需要结合两个要素来看：一是结合“山顶”（即所要达成的结果、目标）来看；二是结合登山者（即记叙文中的“我”或议论文中的主人公）的具体情况，如自身条件、所处境况等。以上两点，既是作文的难点，也是材料一开始所说的“慎重选择路径”的具体内涵所在。将以上两点想清楚了，并在作文里表现清楚了，才应该算是完美支撑起正确题意的作文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33440" y="1197000"/>
            <a:ext cx="83152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面这段话不够简明，请加以修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篮球比赛结束后，比赛完的队友们一个个都坐上大巴走了。大巴是学校的车，学校有好几辆大巴和小轿车。我没有上车，而是一个人默默地走回家。我在回家的途中，紧锁着眉头，无奈地叹息，我心里很难受，不禁为比赛的失利感到难过。那个余晖满天的黄昏，我一个人站在家门口，独自伫立在暮色之中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14"/>
          <p:cNvGrpSpPr/>
          <p:nvPr/>
        </p:nvGrpSpPr>
        <p:grpSpPr>
          <a:xfrm>
            <a:off x="0" y="93600"/>
            <a:ext cx="2751120" cy="1103400"/>
            <a:chOff x="0" y="93600"/>
            <a:chExt cx="2751120" cy="1103400"/>
          </a:xfrm>
        </p:grpSpPr>
        <p:pic>
          <p:nvPicPr>
            <p:cNvPr id="50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93600"/>
              <a:ext cx="27511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16"/>
            <p:cNvSpPr/>
            <p:nvPr/>
          </p:nvSpPr>
          <p:spPr>
            <a:xfrm>
              <a:off x="675000" y="3524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文题展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11280" y="1492200"/>
            <a:ext cx="799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  用简明的语言概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带上她的眼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河中石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主要内容，不超过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字，写完后小组内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68360" y="1276200"/>
            <a:ext cx="8170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  航天、生物、计算机、新能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对哪个领域的科学技术最感兴趣？请搜集相关资料，加深对这种科学技术的理解。在此基础上，展开想象，写一篇作文。不少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合 14"/>
          <p:cNvGrpSpPr/>
          <p:nvPr/>
        </p:nvGrpSpPr>
        <p:grpSpPr>
          <a:xfrm>
            <a:off x="0" y="93600"/>
            <a:ext cx="2751120" cy="1103400"/>
            <a:chOff x="0" y="93600"/>
            <a:chExt cx="2751120" cy="1103400"/>
          </a:xfrm>
        </p:grpSpPr>
        <p:pic>
          <p:nvPicPr>
            <p:cNvPr id="55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93600"/>
              <a:ext cx="27511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16"/>
            <p:cNvSpPr/>
            <p:nvPr/>
          </p:nvSpPr>
          <p:spPr>
            <a:xfrm>
              <a:off x="675000" y="3524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技法点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2"/>
          <p:cNvSpPr/>
          <p:nvPr/>
        </p:nvSpPr>
        <p:spPr>
          <a:xfrm>
            <a:off x="468360" y="1206360"/>
            <a:ext cx="81709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简洁明了地表达意思是作文语言表达的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基本要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“简明”包括“简”和“明”两个方面。“简”即“简练”，就是话语力求简练，不啰嗦，不说多余的话。它反映了量的要求。“明”即“明晰”，就是要把意思表达清楚，使对方准确理解其含意。它含有效果方面的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95280" y="770040"/>
            <a:ext cx="84247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去次留主法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围绕中心，突出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做到语言简明，首先是每一句话都要围绕既定中心，不要节外生枝，游离中心和话题的内容应删去。不过仅仅围绕中心还是不够的，还应该突出重点。俗话说“简明扼要”，从表达上说，只有扼住“要”，才能做到简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1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393840" y="1058760"/>
            <a:ext cx="84247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巧用替代法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善于概括，巧用指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论是书面表达还是口头表达，都不能总是具体叙述而不作必要的概括。只有把必要的叙述和概括结合起来，表达才能简明。再者，运用必要的复指成分，也是表达中不可少的。不用复指成分，就会啰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1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395280" y="987480"/>
            <a:ext cx="84247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消除歧义法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避免含糊，消除歧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语言运用中，由于运用多义词或语序不当、标点不当产生了歧义，从而影响了语意表达。为达到语意明确清晰的目的，就要消除歧义，注意遣词用句，避免语意含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1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8:13:07Z</dcterms:created>
  <dc:creator>Administrator</dc:creator>
  <dc:description/>
  <dc:language>en-US</dc:language>
  <cp:lastModifiedBy>Administrator</cp:lastModifiedBy>
  <dcterms:modified xsi:type="dcterms:W3CDTF">2019-01-07T01:26:12Z</dcterms:modified>
  <cp:revision>2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